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8687-19A4-4BD9-82A0-44BCE653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7890-A69A-4F9E-B0EE-C74AA83B52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B09F-D1F0-49E2-8EB6-E8C5D77D49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99BA-B39B-479A-83DE-BEB489426A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6B8B-793E-4E55-A59E-7DBA7AAFCA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A9B1-332B-4AE6-A75C-A04ACBC870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94E3-5493-4573-BAC6-82784AA895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FD46-E7CA-49D1-86B9-939475D35A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7668-A048-45CA-BA89-A09938C230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0FDE-5661-4797-B56D-24096ED21E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9458-D4F9-4A06-ADF1-028A5B0C5C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3F3C-6DE4-4723-B32C-9CAB625271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8D7-974C-437A-8E28-5446BEEBB9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247-D577-46BF-B4F8-99BACEF9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A63-85CB-441F-B310-7D459F62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F27-100A-476C-B220-16772F87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63A-5FB7-4588-8425-132B9EE0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B704-B591-481B-B367-B4EB0D37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F329-06C7-41AF-8FF3-65D127EF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E99B-0F02-4562-BB9F-2A83D137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F075-3CA8-48B1-9BF8-C712576B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CCAE-27CD-427B-A928-DB4F9796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7606-11A5-4E33-BA67-622EB06D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BC1E-E3A3-4F17-8E45-C7C230BB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938-3DED-426E-A202-1F3981CD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A276-8144-4589-A8AA-8395114C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8874-B042-4DB6-98C6-E16CECC4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37CE-A001-45D7-B254-50E45347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D641-1D65-4568-BFE4-FA2FE8C4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0E81-5F88-45F1-8BB4-E33136DB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D29-C70A-4B3B-A248-FF414C87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3D4-74C4-4A3F-8B61-286974C4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10F-1D56-45D0-B646-8001DAF6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9EC-A98A-4BD8-B147-EA512E0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298-9198-4EE9-A9F2-991DDD26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A14-C2FD-4320-8148-5B8D1EA4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77C-211B-42F0-B9AB-9CFB03B8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75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6133"/>
                  </a:gs>
                  <a:gs pos="100000">
                    <a:srgbClr val="4f5e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b582e"/>
                  </a:gs>
                  <a:gs pos="50000">
                    <a:srgbClr val="526133"/>
                  </a:gs>
                  <a:gs pos="100000">
                    <a:srgbClr val="4b58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FAAC-9A2A-439C-A6FD-1090EE85FC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75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6133"/>
                  </a:gs>
                  <a:gs pos="100000">
                    <a:srgbClr val="4f5e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b582e"/>
                  </a:gs>
                  <a:gs pos="50000">
                    <a:srgbClr val="526133"/>
                  </a:gs>
                  <a:gs pos="100000">
                    <a:srgbClr val="4b58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EF7B-53FA-4C97-B3D1-A8F115C3EF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visiblechildren.com/" TargetMode="External"/><Relationship Id="rId2" Type="http://schemas.openxmlformats.org/officeDocument/2006/relationships/hyperlink" Target="https://secure.invisiblechildren.com/donate/mediaPlayer_angel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0030723_sierraleonechild"/>
          <p:cNvPicPr/>
          <p:nvPr/>
        </p:nvPicPr>
        <p:blipFill>
          <a:blip r:embed="rId1"/>
          <a:stretch/>
        </p:blipFill>
        <p:spPr>
          <a:xfrm>
            <a:off x="2743200" y="1447920"/>
            <a:ext cx="3639960" cy="487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92" name="WordArt 6"/>
          <p:cNvSpPr txBox="1"/>
          <p:nvPr/>
        </p:nvSpPr>
        <p:spPr>
          <a:xfrm>
            <a:off x="533520" y="76320"/>
            <a:ext cx="8076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COULD THIS BE YOU?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533520" y="304920"/>
            <a:ext cx="8076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424" name="Picture 6" descr="IDP%20Camp%20Squalor"/>
          <p:cNvPicPr/>
          <p:nvPr/>
        </p:nvPicPr>
        <p:blipFill>
          <a:blip r:embed="rId1"/>
          <a:srcRect l="0" t="20866" r="0" b="0"/>
          <a:stretch/>
        </p:blipFill>
        <p:spPr>
          <a:xfrm>
            <a:off x="838080" y="1752480"/>
            <a:ext cx="762012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25" name="Text Box 7"/>
          <p:cNvSpPr/>
          <p:nvPr/>
        </p:nvSpPr>
        <p:spPr>
          <a:xfrm>
            <a:off x="914400" y="64008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LIFE LIKE IN THESE CAMPS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609480" y="1600200"/>
            <a:ext cx="807732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LIFE IN IDP CAMPS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CAUSE THERE ARE SO MANY PEOPLE (2 MILLION) IN THESE CAMPS,    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NY PEOPLE STARVE BECAUSE OF LACK OF FOO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CK OF WATER = DEHYDRATION = DEATH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IGHTTIME ATTACKS CONTINUE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.  KIDS ARE STILL KIDNAPPED (MORE THAN 30,000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.  ADULTS ARE STILL KILLED EVEN WITH “PROTECTION”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EASE SPREADS BY DIRTY WATER, MOSQUITOS ETC.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4"/>
          <p:cNvSpPr/>
          <p:nvPr/>
        </p:nvSpPr>
        <p:spPr>
          <a:xfrm>
            <a:off x="2335320" y="3214800"/>
            <a:ext cx="4027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www.invisiblechildren.co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WordArt 5"/>
          <p:cNvSpPr txBox="1"/>
          <p:nvPr/>
        </p:nvSpPr>
        <p:spPr>
          <a:xfrm>
            <a:off x="533520" y="45720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WANT TO HELP?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616680" y="4343400"/>
            <a:ext cx="820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s://secure.invisiblechildren.com/donate/mediaPlayer_angels.htm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42900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ebsite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200400" y="38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nation video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3124080" y="4952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ECVHS club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380880" y="54864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C.A.R.E. CLUB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5"/>
          <p:cNvSpPr txBox="1"/>
          <p:nvPr/>
        </p:nvSpPr>
        <p:spPr>
          <a:xfrm>
            <a:off x="533520" y="76320"/>
            <a:ext cx="8076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828800" y="9907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NORTHERN UGANDA: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“INVISIBLE CHILDREN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8" descr="CampAerialView500x667"/>
          <p:cNvPicPr/>
          <p:nvPr/>
        </p:nvPicPr>
        <p:blipFill>
          <a:blip r:embed="rId1"/>
          <a:srcRect l="0" t="19600" r="0" b="0"/>
          <a:stretch/>
        </p:blipFill>
        <p:spPr>
          <a:xfrm>
            <a:off x="1066680" y="1905120"/>
            <a:ext cx="7010640" cy="422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96" name="Text Box 9"/>
          <p:cNvSpPr/>
          <p:nvPr/>
        </p:nvSpPr>
        <p:spPr>
          <a:xfrm>
            <a:off x="1600200" y="6324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ERNALLY DISPLACED PEOPLE (IDP) CAM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11" descr="photo_fowler"/>
          <p:cNvPicPr/>
          <p:nvPr/>
        </p:nvPicPr>
        <p:blipFill>
          <a:blip r:embed="rId2"/>
          <a:stretch/>
        </p:blipFill>
        <p:spPr>
          <a:xfrm>
            <a:off x="3790800" y="3429000"/>
            <a:ext cx="4286520" cy="270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533520" y="1523880"/>
            <a:ext cx="807696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QUICK FACTS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 YEARS OF WA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IGHTS BETWEEN THE “LRA” LORD’S RESISTANCE ARM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ND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UGANDAN GOVERNMEN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R HAS DESTROYED A LOT OF PEOPLES’ LIVES…..SEEN MOSTLY IN THE CHILDRENS’ LIVES….VERY SAD!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KIDS  HAVE GROWN UP ONLY KNOWING A LIFE OF WA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UR RESPONSIBILITY MAY BE TO HELP THESE KIDS FIND EDUCATION AND A POSITIVE FUTURE…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533520" y="1676520"/>
            <a:ext cx="8153280" cy="49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WHY WAR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ACED BACK TO A WOMAN NAMED ALICE LAKWENA IN THE 1980’s  (“LAKWENA” = SPIRIT THAT POSESSED HER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HE BELIEVED A “VOICE” SPOKE TO HER AND SAID “OVERTHROW THE UGANDAN GOVERNMENT” (FOR BEING UNJUST TO THE “ACHOLIS”…A TRIBE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LICE IS “KICKED-OUT” OF UGANDA….WHO LEADS NOW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OSEPH KONY, CLAIMED TO BE ALICE’S COUSIN AND CREATES THE LRA OR “LORD’S RESISTANCE ARMY”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403" name="Picture 7" descr="kony"/>
          <p:cNvPicPr/>
          <p:nvPr/>
        </p:nvPicPr>
        <p:blipFill>
          <a:blip r:embed="rId1"/>
          <a:stretch/>
        </p:blipFill>
        <p:spPr>
          <a:xfrm>
            <a:off x="568440" y="1600200"/>
            <a:ext cx="3774960" cy="457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04" name="Text Box 8"/>
          <p:cNvSpPr/>
          <p:nvPr/>
        </p:nvSpPr>
        <p:spPr>
          <a:xfrm>
            <a:off x="5335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RA LEADER: JOSEPH KONY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572000" y="1523880"/>
            <a:ext cx="40384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WHAT DID THE LRA DO NEXT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ST A LOT OF SUPPOR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PERATE FOR ATTENTION = REBELS RESORT TO ABDUCTING CHILDREN….YES CHILDRE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ILDREN ARE ABDUCTED DURING SCHOOL AND FROM HOMES/VILLAGES AT NI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ILDREN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ORCE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INTO WA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6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33520" y="1523880"/>
            <a:ext cx="4114800" cy="49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WHY INNOCENT CHILDREN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ILDREN CAN EASILY B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RAINWASHE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AND TOLD WHAT TO DO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IG ENOUGH TO CARRY A GU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TS OF THEM =  HUGE ARMY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% OF LRA IS LITTLE CHILDREN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9 OUT OF 10 ARE KIDS!!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9" descr="20030723_sierraleonechild"/>
          <p:cNvPicPr/>
          <p:nvPr/>
        </p:nvPicPr>
        <p:blipFill>
          <a:blip r:embed="rId1"/>
          <a:stretch/>
        </p:blipFill>
        <p:spPr>
          <a:xfrm>
            <a:off x="4818240" y="1523880"/>
            <a:ext cx="3639960" cy="48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09" name="Text Box 18"/>
          <p:cNvSpPr/>
          <p:nvPr/>
        </p:nvSpPr>
        <p:spPr>
          <a:xfrm>
            <a:off x="480060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IDNAPPED 6 YR. OL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533520" y="1676520"/>
            <a:ext cx="80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6" descr="child%20soldiers%20squad%20Sierra%20Leone"/>
          <p:cNvPicPr/>
          <p:nvPr/>
        </p:nvPicPr>
        <p:blipFill>
          <a:blip r:embed="rId1"/>
          <a:srcRect l="7218" t="0" r="32992" b="0"/>
          <a:stretch/>
        </p:blipFill>
        <p:spPr>
          <a:xfrm>
            <a:off x="533520" y="1766880"/>
            <a:ext cx="3935160" cy="43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13" name="Text Box 7"/>
          <p:cNvSpPr/>
          <p:nvPr/>
        </p:nvSpPr>
        <p:spPr>
          <a:xfrm>
            <a:off x="4724280" y="1523880"/>
            <a:ext cx="403884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LIFE AS A CHILD SOLDIER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 MAN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ORCE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TO KILL THEIR OWN FAMILY MEMBERS AND OTHER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MANY ABUSED BOTH PHYSICALLY AND SEXUALLY BY ADULT LRA MEMBER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ST WILL BE KILLED IN WAR OR BY THE LR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SYCHOLOGICAL DAMAGE IS NOT “FIXABLE” FOR MOS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5335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IDNAPPED / BRAINWASHE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4"/>
          <p:cNvSpPr txBox="1"/>
          <p:nvPr/>
        </p:nvSpPr>
        <p:spPr>
          <a:xfrm>
            <a:off x="533520" y="76320"/>
            <a:ext cx="8076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416" name="Picture 5" descr="intro_child_soldier"/>
          <p:cNvPicPr/>
          <p:nvPr/>
        </p:nvPicPr>
        <p:blipFill>
          <a:blip r:embed="rId1"/>
          <a:srcRect l="16002" t="0" r="23695" b="0"/>
          <a:stretch/>
        </p:blipFill>
        <p:spPr>
          <a:xfrm>
            <a:off x="533520" y="1752480"/>
            <a:ext cx="3733560" cy="350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17" name="Picture 6" descr="childd"/>
          <p:cNvPicPr/>
          <p:nvPr/>
        </p:nvPicPr>
        <p:blipFill>
          <a:blip r:embed="rId2"/>
          <a:srcRect l="0" t="2034" r="14794" b="6362"/>
          <a:stretch/>
        </p:blipFill>
        <p:spPr>
          <a:xfrm>
            <a:off x="4495680" y="1752480"/>
            <a:ext cx="4114800" cy="350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18" name="Text Box 7"/>
          <p:cNvSpPr/>
          <p:nvPr/>
        </p:nvSpPr>
        <p:spPr>
          <a:xfrm>
            <a:off x="609480" y="54864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33520" y="55767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RE OF THE SAME…. NOTICE THE FRIGHTENED LOO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2514600" y="137160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1986 – 1996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THE WAR DEGENERAT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609480" y="2514600"/>
            <a:ext cx="807732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CAUSE OF “HORRIFIC TACTICS”, TH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INITIAL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SUPPORT OF THE LRA HAS FADED…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PEOPLE OF UGANDA DO NOT SUPPORT THE LRA MUCH ANYMORE…..MOSTLY “FEAR THEM”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RA HAS NOW “WAGED TERROR” ON THE CIVILIAN POPULATION TO KEEP ATTENTION ON THEM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96 = GOVERNMENT PUT ALL N. UGANDAN PEOPLE IN CAMPS TO PROTECT THEM….TERROR STILL CONTINUES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8:12:02Z</dcterms:created>
  <dc:creator>Ndavidson</dc:creator>
  <dc:description/>
  <dc:language>en-US</dc:language>
  <cp:lastModifiedBy>Nvasquez</cp:lastModifiedBy>
  <dcterms:modified xsi:type="dcterms:W3CDTF">2011-03-21T19:07:28Z</dcterms:modified>
  <cp:revision>39</cp:revision>
  <dc:subject/>
  <dc:title>Slide 1</dc:title>
</cp:coreProperties>
</file>